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662B8-BF54-4A10-AF9B-B9AF4A807B70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Image from: http://lifewallpaperz.com/image.php?pic=/images/2015/sunlight/sunlight-01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39F89-2DD8-43CB-8B63-172CB4BE2EB7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iws.collin.edu/biopage/faculty/mcculloch/1406/outlines/chapter%2010/chap10.htm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www.il.mahidol.ac.th/e-media/electrochemistry/web/pictures/nad.gif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from: http://www.sivabio.50webs.com/plastids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Image from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ws.collin.edu/biopage/faculty/mcculloch/1406/outlines/chapter%2010/chap10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1C87D-C235-4AE5-8ADE-54F7DEE44D82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kvhs.nbed.nb.ca/gallant/biology/photosynth_summary.html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52837-F2B3-4C24-A87E-1466EA8DCFB9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084A6-8DA1-4F38-853A-B0188834FF49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39E6D-1381-4813-829A-8350F342A31F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from: http://www.artinaid.com/wp-content/uploads/2013/04/Light-absorption-in-photosynthesis.p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07FFE-54FD-420D-ABED-B5B175B9B7AC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163.16.28.248/bio/activelearner/08/ch8c2.html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from: http://kensieandhuntersproject.blogspot.ca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from: http://tokresource.org/tok_classes/biobiobio/biomenu/photosynthesis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95CE-412E-4FE3-B6CF-F3AACAC1B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0389-4DFF-4C54-843C-3BAC2E939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528F-9CF8-47F5-878D-E379EB6C5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E30E-CC96-4D99-9849-5F38B8076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FC9B-8EDE-422D-863E-1BFD1790F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3A7F-E3B2-41C7-8AC4-803CF396A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4082-B357-4177-B08C-40093B8E8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53FA-AFB9-4724-9057-9575E8F68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DAB4-B5F2-449A-A326-8D1148D58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2BB9-C6E4-4DC0-BF43-9AB4D9E6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A4E8-6BB2-49FE-ACC9-C5AFAA3B9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A303-CB12-468F-9F7D-B720CF5C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21850-D199-456A-BABA-D9AC9158ED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s://www.khanacademy.org/science/biology/photosynthesis/v/photosynthesis-light-reactions-and-photophosphorylation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vcell.ndsu.edu/animations/photosynthesis/movie-flash.htm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thways of Photosynthesi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-Dependent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-cyclic Electron 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10-11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</a:t>
            </a: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 visit the Khan Academ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ntastic explanation of electron transport in photosynthesis (20 minutes lo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khanacademy.org/science/biology/photosynthesis/v/photosynthesis-light-reactions-and-photophosphory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&amp; NADP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cotinamide adenine dinucleotide phos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enzyme used in anabolic reactions such as photo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nad"/>
          <p:cNvPicPr/>
          <p:nvPr/>
        </p:nvPicPr>
        <p:blipFill>
          <a:blip r:embed="rId1"/>
          <a:stretch/>
        </p:blipFill>
        <p:spPr>
          <a:xfrm>
            <a:off x="4648320" y="1641600"/>
            <a:ext cx="4038480" cy="44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clic Electron 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plas015"/>
          <p:cNvPicPr/>
          <p:nvPr/>
        </p:nvPicPr>
        <p:blipFill>
          <a:blip r:embed="rId1"/>
          <a:stretch/>
        </p:blipFill>
        <p:spPr>
          <a:xfrm>
            <a:off x="1104840" y="1371600"/>
            <a:ext cx="6932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clic Electron 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irtual cell movi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Electron Transport Chain in Photo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cGraw-Hill Ryerson self-quiz…try it!  (I can’t download the animation but maybe you can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are looking to test yourself…do a search for “light-dependent reactions quiz” &amp; see what you fin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-353880" y="693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nthesis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-Dependent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-Dependent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-Dependent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xcitation of electr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Photosystem II (chlorophyll P680), which is transferred to primary electron accep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ar (non-cyclic) electron f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miosmosis (ATP synthes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stem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Content Placeholder 3" descr="Light-absorption-in-photosynthesis.png"/>
          <p:cNvPicPr/>
          <p:nvPr/>
        </p:nvPicPr>
        <p:blipFill>
          <a:blip r:embed="rId1"/>
          <a:srcRect l="1546" t="0" r="1546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n Tran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ch08c2"/>
          <p:cNvPicPr/>
          <p:nvPr/>
        </p:nvPicPr>
        <p:blipFill>
          <a:blip r:embed="rId1"/>
          <a:stretch/>
        </p:blipFill>
        <p:spPr>
          <a:xfrm>
            <a:off x="766800" y="1600200"/>
            <a:ext cx="7610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u4fg44"/>
          <p:cNvPicPr/>
          <p:nvPr/>
        </p:nvPicPr>
        <p:blipFill>
          <a:blip r:embed="rId1"/>
          <a:stretch/>
        </p:blipFill>
        <p:spPr>
          <a:xfrm>
            <a:off x="457200" y="446040"/>
            <a:ext cx="8305920" cy="59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07_08aPhotosElectronFlow_L"/>
          <p:cNvPicPr/>
          <p:nvPr/>
        </p:nvPicPr>
        <p:blipFill>
          <a:blip r:embed="rId1"/>
          <a:stretch/>
        </p:blipFill>
        <p:spPr>
          <a:xfrm>
            <a:off x="457200" y="1382760"/>
            <a:ext cx="8229600" cy="36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1T02:53:26Z</dcterms:created>
  <dc:creator>james</dc:creator>
  <dc:description/>
  <dc:language>en-US</dc:language>
  <cp:lastModifiedBy>rubina khan</cp:lastModifiedBy>
  <dcterms:modified xsi:type="dcterms:W3CDTF">2015-10-23T18:37:26Z</dcterms:modified>
  <cp:revision>119</cp:revision>
  <dc:subject/>
  <dc:title>Slide 1</dc:title>
</cp:coreProperties>
</file>